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4.png" ContentType="image/png"/>
  <Override PartName="/ppt/media/image1.wmf" ContentType="image/x-wmf"/>
  <Override PartName="/ppt/media/image28.png" ContentType="image/png"/>
  <Override PartName="/ppt/media/image16.wmf" ContentType="image/x-wmf"/>
  <Override PartName="/ppt/media/image13.png" ContentType="image/png"/>
  <Override PartName="/ppt/media/image33.wmf" ContentType="image/x-wmf"/>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5.png" ContentType="image/png"/>
  <Override PartName="/ppt/media/image31.png" ContentType="image/png"/>
  <Override PartName="/ppt/media/image32.png" ContentType="image/png"/>
  <Override PartName="/ppt/media/image15.wmf" ContentType="image/x-wmf"/>
  <Override PartName="/ppt/media/image34.wmf" ContentType="image/x-wmf"/>
  <Override PartName="/ppt/media/image35.wmf" ContentType="image/x-wmf"/>
  <Override PartName="/ppt/media/image39.wmf" ContentType="image/x-wmf"/>
  <Override PartName="/ppt/media/image12.png" ContentType="image/pn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EDD8-A1E0-4215-8490-BBB66234E8B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C4AE-B2D5-4A25-A038-E916D1F9562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6F13-6B6C-47CF-9D4A-4F3FFE2C80A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standardandpoors.com/" TargetMode="External"/><Relationship Id="rId2" Type="http://schemas.openxmlformats.org/officeDocument/2006/relationships/hyperlink" Target="http://www.moodys.com/" TargetMode="External"/><Relationship Id="rId3" Type="http://schemas.openxmlformats.org/officeDocument/2006/relationships/hyperlink" Target="http://www.bondsonline.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General Discussion of Rate Design, Cost of Service and Rate Design in the Context of Electricity Policy</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Policy Frameworks</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Frameworks for Pricing of Electricit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Rat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Genera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P/PPA and Single Buyer Mod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Ownershi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ystem is Per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Each System</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llocation for Generat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Electricity  consists of the costs for generating power and buying bulk power from other systems.  This includes the capital cost and the fuel cost of generating units as well as the cost of purchased power from IPP’s.  Some costs of the bulk transmission system are also included.</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Marginal Cost and Revenue Requirement</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does not Normally Equ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between marginal cost and the revenue requirement must be imposed on some customers for the utility company to collect the tot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to collect revenue requir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ustomers who can leave the system – i.e. customers that have high elasticity – set the price close to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re are competitive services, the price should be set to the marginal cost or the customer will leave the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of inverse elasticity where the difference between marginal cost and revenue should be imposed on customers with low price elastic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of using equal proportion of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Allocation</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 the Revenue Requirement into various cost categories that can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Pla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os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llocation Factors that Sum to 1.0 according to customer cla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Peak Loa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Using Embedded Cost</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Alloc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that customers who have low load factor will not pay for plants that are used to serve th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ystem with peaking and base load plants where peaking plants are built for infrequent us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s include energy and demand.  Do not charge customers who use a lot of energ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Non-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is not meaningful</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Average and Exces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only energy and only peak – compromise alloc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Cost with Alternative Generation Profile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wo customers with different load fact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ing Analysis for Optimal Pla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pay the actual capacity cost and the actual fue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st Allocated on Energ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ost Allocated on Dema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Customers have Same Load Factor, there is No Problem with th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ifferent load fact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oad factor should pay lower capacity cost and higher energy cos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oad factor should pay for higher capacity charge and lower energy charge</a:t>
            </a:r>
            <a:endParaRPr b="0" lang="en-US" sz="1400" spc="-1" strike="noStrike">
              <a:solidFill>
                <a:srgbClr val="000000"/>
              </a:solidFill>
              <a:latin typeface="Arial"/>
            </a:endParaRPr>
          </a:p>
          <a:p>
            <a:pPr lvl="1" marL="855720" indent="-28908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on Costs - Example</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1, Low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Peaking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2, High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Coal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System is Combined Cycle</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pays somewhat more for the capacity cos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2 pays somewhat more for the energy cost</a:t>
            </a:r>
            <a:endParaRPr b="0" lang="en-US" sz="12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Combined Cycle provides Energy Benefits</a:t>
            </a:r>
            <a:endParaRPr b="0" lang="en-US" sz="18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nd Energy Costs for Generation</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peration and Maintenance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Charge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operation and maintenanc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Cost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Related to Reduce Fuel Cos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nventory</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Generation and Loss of Load Probability</a:t>
            </a:r>
            <a:endParaRPr b="1" lang="en-US" sz="2000" spc="-1" strike="noStrike">
              <a:solidFill>
                <a:srgbClr val="000000"/>
              </a:solidFill>
              <a:latin typeface="Arial"/>
            </a:endParaRPr>
          </a:p>
        </p:txBody>
      </p:sp>
      <p:sp>
        <p:nvSpPr>
          <p:cNvPr id="3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oad probability is a function o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load on a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ability of plants not being availabl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igh costs of plants being out of servi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ustomers using dies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lost produ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inconvie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should equal the cost of new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is hours of outage per year x  cost of outag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otal load x LOLP x cost of outage which changes by hou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 new plant is the capital cost x carrying charge factor</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Required Prices for Different Plants</a:t>
            </a:r>
            <a:endParaRPr b="1" lang="en-US" sz="2000" spc="-1" strike="noStrike">
              <a:solidFill>
                <a:srgbClr val="000000"/>
              </a:solidFill>
              <a:latin typeface="Arial"/>
            </a:endParaRPr>
          </a:p>
        </p:txBody>
      </p:sp>
      <p:pic>
        <p:nvPicPr>
          <p:cNvPr id="336" name="Picture 4" descr="alternative plants"/>
          <p:cNvPicPr/>
          <p:nvPr/>
        </p:nvPicPr>
        <p:blipFill>
          <a:blip r:embed="rId1"/>
          <a:stretch/>
        </p:blipFill>
        <p:spPr>
          <a:xfrm>
            <a:off x="1295280" y="1523880"/>
            <a:ext cx="6438960" cy="4829400"/>
          </a:xfrm>
          <a:prstGeom prst="rect">
            <a:avLst/>
          </a:prstGeom>
          <a:ln w="0">
            <a:noFill/>
          </a:ln>
        </p:spPr>
      </p:pic>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A3E7-D63D-48B8-ABE3-9B3774C5665F}"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D693-F4C3-4DFD-A310-11B114450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Costs from the EIA</a:t>
            </a:r>
            <a:endParaRPr b="1" lang="en-US" sz="2000" spc="-1" strike="noStrike">
              <a:solidFill>
                <a:srgbClr val="000000"/>
              </a:solidFill>
              <a:latin typeface="Arial"/>
            </a:endParaRPr>
          </a:p>
        </p:txBody>
      </p:sp>
      <p:pic>
        <p:nvPicPr>
          <p:cNvPr id="341" name="Picture 4" descr="capacity_cost"/>
          <p:cNvPicPr/>
          <p:nvPr/>
        </p:nvPicPr>
        <p:blipFill>
          <a:blip r:embed="rId1"/>
          <a:stretch/>
        </p:blipFill>
        <p:spPr>
          <a:xfrm>
            <a:off x="533520" y="1243080"/>
            <a:ext cx="8229600" cy="5067360"/>
          </a:xfrm>
          <a:prstGeom prst="rect">
            <a:avLst/>
          </a:prstGeom>
          <a:ln w="0">
            <a:noFill/>
          </a:ln>
        </p:spPr>
      </p:pic>
      <p:sp>
        <p:nvSpPr>
          <p:cNvPr id="3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1F7B-CED4-4670-9F44-FD36312A76C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F792-BCB1-446D-9642-8DDB2850C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Monopoly Syste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Model since 1920’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nded from Natural Monopoly Idea</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ed in Gold Plating and Poor Investment Choice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administrative costs with multiple cases</a:t>
            </a:r>
            <a:endParaRPr b="0" lang="en-US" sz="22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or rate case is about a year</a:t>
            </a:r>
            <a:endParaRPr b="0" lang="en-US" sz="20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vernors and Government Agencies</a:t>
            </a:r>
            <a:endParaRPr b="0" lang="en-US" sz="20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 regulatory programs</a:t>
            </a:r>
            <a:endParaRPr b="0" lang="en-US" sz="2200" spc="-1" strike="noStrike">
              <a:solidFill>
                <a:srgbClr val="000000"/>
              </a:solidFill>
              <a:latin typeface="Arial"/>
            </a:endParaRPr>
          </a:p>
          <a:p>
            <a:pPr marL="231840" indent="-17316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ker Method</a:t>
            </a:r>
            <a:endParaRPr b="1" lang="en-US" sz="2000" spc="-1" strike="noStrike">
              <a:solidFill>
                <a:srgbClr val="000000"/>
              </a:solidFill>
              <a:latin typeface="Arial"/>
            </a:endParaRPr>
          </a:p>
        </p:txBody>
      </p:sp>
      <p:sp>
        <p:nvSpPr>
          <p:cNvPr id="3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peaker cost should be allocated on the basis of demand, then compute the surplus cost over and above a peaking plant for each type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aking cost is allocated on the basis of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rplus cost above the cost of a peaking plant is allocated on the basis of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the cost of peaking plants for old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Method: On-peak and off-Peak Method for allocating energ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Cost allocation Using Peaking Method</a:t>
            </a:r>
            <a:endParaRPr b="1" lang="en-US" sz="2000" spc="-1" strike="noStrike">
              <a:solidFill>
                <a:srgbClr val="000000"/>
              </a:solidFill>
              <a:latin typeface="Arial"/>
            </a:endParaRPr>
          </a:p>
        </p:txBody>
      </p:sp>
      <p:pic>
        <p:nvPicPr>
          <p:cNvPr id="348" name="Picture 2" descr=""/>
          <p:cNvPicPr/>
          <p:nvPr/>
        </p:nvPicPr>
        <p:blipFill>
          <a:blip r:embed="rId1"/>
          <a:stretch/>
        </p:blipFill>
        <p:spPr>
          <a:xfrm>
            <a:off x="762120" y="1536840"/>
            <a:ext cx="7619760" cy="4546440"/>
          </a:xfrm>
          <a:prstGeom prst="rect">
            <a:avLst/>
          </a:prstGeom>
          <a:ln w="0">
            <a:noFill/>
          </a:ln>
        </p:spPr>
      </p:pic>
      <p:sp>
        <p:nvSpPr>
          <p:cNvPr id="349" name="TextBox 4"/>
          <p:cNvSpPr/>
          <p:nvPr/>
        </p:nvSpPr>
        <p:spPr>
          <a:xfrm>
            <a:off x="3429000" y="594360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ost of each plant</a:t>
            </a:r>
            <a:endParaRPr b="0" lang="en-US" sz="12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alysis and Screening Curves</a:t>
            </a:r>
            <a:endParaRPr b="1" lang="en-US" sz="2000" spc="-1" strike="noStrike">
              <a:solidFill>
                <a:srgbClr val="000000"/>
              </a:solidFill>
              <a:latin typeface="Arial"/>
            </a:endParaRPr>
          </a:p>
        </p:txBody>
      </p:sp>
      <p:pic>
        <p:nvPicPr>
          <p:cNvPr id="351" name="Picture 3" descr=""/>
          <p:cNvPicPr/>
          <p:nvPr/>
        </p:nvPicPr>
        <p:blipFill>
          <a:blip r:embed="rId1"/>
          <a:stretch/>
        </p:blipFill>
        <p:spPr>
          <a:xfrm>
            <a:off x="1298520" y="2043000"/>
            <a:ext cx="6245280" cy="3824280"/>
          </a:xfrm>
          <a:prstGeom prst="rect">
            <a:avLst/>
          </a:prstGeom>
          <a:ln w="0">
            <a:noFill/>
          </a:ln>
        </p:spPr>
      </p:pic>
      <p:sp>
        <p:nvSpPr>
          <p:cNvPr id="3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7AC1-6DAF-4ED7-9116-1B9C7EF73192}"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41A3-5898-4C4C-813E-551D0F65E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Generation</a:t>
            </a:r>
            <a:endParaRPr b="1" lang="en-US" sz="2000" spc="-1" strike="noStrike">
              <a:solidFill>
                <a:srgbClr val="000000"/>
              </a:solidFill>
              <a:latin typeface="Arial"/>
            </a:endParaRPr>
          </a:p>
        </p:txBody>
      </p:sp>
      <p:sp>
        <p:nvSpPr>
          <p:cNvPr id="356"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 of New Gener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Allocating Fixed Plant Cost</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Peak Load is not appropriate because part of the cost of base load plants is associated with reducing the cost of energy</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Energy is not appropriate because plants must be build to serve the maximum load on a system and the cost of un-used plants should not be attributed to customers</a:t>
            </a:r>
            <a:endParaRPr b="0" lang="en-US" sz="16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Base Load, Peaking and Intermediate Plant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lloc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nd Exces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Method</a:t>
            </a:r>
            <a:endParaRPr b="1" lang="en-US" sz="2000" spc="-1" strike="noStrike">
              <a:solidFill>
                <a:srgbClr val="000000"/>
              </a:solidFill>
              <a:latin typeface="Arial"/>
            </a:endParaRPr>
          </a:p>
        </p:txBody>
      </p:sp>
      <p:sp>
        <p:nvSpPr>
          <p:cNvPr id="3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data for the  maximum demand and the average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Total Demand x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uses average demand as load factor = average/pea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Excess Deman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demand of each class and the total coincident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por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by (1-load factor) to obtain the total allocator</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Example Using Average Demand from NCP</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762120" y="1533600"/>
            <a:ext cx="7619760" cy="455292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using Energy Factor</a:t>
            </a:r>
            <a:endParaRPr b="1" lang="en-US" sz="2000" spc="-1" strike="noStrike">
              <a:solidFill>
                <a:srgbClr val="000000"/>
              </a:solidFill>
              <a:latin typeface="Arial"/>
            </a:endParaRPr>
          </a:p>
        </p:txBody>
      </p:sp>
      <p:pic>
        <p:nvPicPr>
          <p:cNvPr id="362" name="Picture 2" descr=""/>
          <p:cNvPicPr/>
          <p:nvPr/>
        </p:nvPicPr>
        <p:blipFill>
          <a:blip r:embed="rId1"/>
          <a:stretch/>
        </p:blipFill>
        <p:spPr>
          <a:xfrm>
            <a:off x="762120" y="1639800"/>
            <a:ext cx="7619760" cy="4340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Costs to Customer Classes</a:t>
            </a:r>
            <a:endParaRPr b="1" lang="en-US" sz="2000" spc="-1" strike="noStrike">
              <a:solidFill>
                <a:srgbClr val="000000"/>
              </a:solidFill>
              <a:latin typeface="Arial"/>
            </a:endParaRPr>
          </a:p>
        </p:txBody>
      </p:sp>
      <p:sp>
        <p:nvSpPr>
          <p:cNvPr id="3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idea is that production plants were only driven by the maximum peak demand in a single hou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demand to allocate plant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n fact base load plants are built to produce lower energy costs.  Therefore some of the plant cost should be allocated on the basis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use loss of load probability to compute peak demand so that it does not occur in every hour</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Exercise with Average and Excess Method</a:t>
            </a:r>
            <a:endParaRPr b="1" lang="en-US" sz="2000" spc="-1" strike="noStrike">
              <a:solidFill>
                <a:srgbClr val="000000"/>
              </a:solidFill>
              <a:latin typeface="Arial"/>
            </a:endParaRPr>
          </a:p>
        </p:txBody>
      </p:sp>
      <p:pic>
        <p:nvPicPr>
          <p:cNvPr id="366" name="Picture 2" descr=""/>
          <p:cNvPicPr/>
          <p:nvPr/>
        </p:nvPicPr>
        <p:blipFill>
          <a:blip r:embed="rId1"/>
          <a:stretch/>
        </p:blipFill>
        <p:spPr>
          <a:xfrm>
            <a:off x="1481040" y="1523880"/>
            <a:ext cx="618192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Formula</a:t>
            </a:r>
            <a:endParaRPr b="1" lang="en-US" sz="2000" spc="-1" strike="noStrike">
              <a:solidFill>
                <a:srgbClr val="000000"/>
              </a:solidFill>
              <a:latin typeface="Arial"/>
            </a:endParaRPr>
          </a:p>
        </p:txBody>
      </p:sp>
      <p:pic>
        <p:nvPicPr>
          <p:cNvPr id="368" name="Picture 2" descr=""/>
          <p:cNvPicPr/>
          <p:nvPr/>
        </p:nvPicPr>
        <p:blipFill>
          <a:blip r:embed="rId1"/>
          <a:stretch/>
        </p:blipFill>
        <p:spPr>
          <a:xfrm>
            <a:off x="685800" y="1828800"/>
            <a:ext cx="7620120" cy="26528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in Regulated Utility Model</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Revenue Requirements from Accounting Dat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Determination of Rate Classes (e.g. domestic, business and street ligh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the Cost of Service for Each Class of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Compute Individual Rates in the Rate Design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Average and Exces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1625760" y="1523880"/>
            <a:ext cx="589248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a:t>
            </a:r>
            <a:endParaRPr b="1" lang="en-US" sz="2000" spc="-1" strike="noStrike">
              <a:solidFill>
                <a:srgbClr val="000000"/>
              </a:solidFill>
              <a:latin typeface="Arial"/>
            </a:endParaRPr>
          </a:p>
        </p:txBody>
      </p:sp>
      <p:sp>
        <p:nvSpPr>
          <p:cNvPr id="37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function includes the radial distribution system that connects the customer to the transmission system.  The distribution function is normally subdivided in order to recognize the non-utilization of certain types of plant by some customer classe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are served at the primary system should not be allocated costs of the secondary system.</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is generally driven by demand and the number of customers.  There may be some energy componen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 include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High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Low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ers to change voltage level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Assignment</a:t>
            </a:r>
            <a:endParaRPr b="1" lang="en-US" sz="2000" spc="-1" strike="noStrike">
              <a:solidFill>
                <a:srgbClr val="000000"/>
              </a:solidFill>
              <a:latin typeface="Arial"/>
            </a:endParaRPr>
          </a:p>
        </p:txBody>
      </p:sp>
      <p:sp>
        <p:nvSpPr>
          <p:cNvPr id="3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ustomer completely uses a wire or a transfor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ll of th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ther costs that would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an be collected through a specific facilities char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associated with the charge should be deducted from the overall revenue requir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Distribution</a:t>
            </a:r>
            <a:endParaRPr b="1" lang="en-US" sz="2000" spc="-1" strike="noStrike">
              <a:solidFill>
                <a:srgbClr val="000000"/>
              </a:solidFill>
              <a:latin typeface="Arial"/>
            </a:endParaRPr>
          </a:p>
        </p:txBody>
      </p:sp>
      <p:sp>
        <p:nvSpPr>
          <p:cNvPr id="3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from Deman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from Coincident Peak or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osts with Coincident peak and Secondary Costs with local peak that is approximated with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ervice drops can depend on size or load</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Down and Bottom U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costs using typical customer profile and then aggregating costs.  Example, cost of transformer for typical residential and business customer.</a:t>
            </a:r>
            <a:endParaRPr b="0" lang="en-US" sz="16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Distribution System Concept</a:t>
            </a:r>
            <a:endParaRPr b="1" lang="en-US" sz="2000" spc="-1" strike="noStrike">
              <a:solidFill>
                <a:srgbClr val="000000"/>
              </a:solidFill>
              <a:latin typeface="Arial"/>
            </a:endParaRPr>
          </a:p>
        </p:txBody>
      </p:sp>
      <p:sp>
        <p:nvSpPr>
          <p:cNvPr id="3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economies of scale in providing distribution and that some facilities are required even if very little electricity is used.</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by large industrial groups as some distribution allocated on the basis of the number of customers.</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Distribution Cost</a:t>
            </a:r>
            <a:endParaRPr b="1" lang="en-US" sz="2000" spc="-1" strike="noStrike">
              <a:solidFill>
                <a:srgbClr val="000000"/>
              </a:solidFill>
              <a:latin typeface="Arial"/>
            </a:endParaRPr>
          </a:p>
        </p:txBody>
      </p:sp>
      <p:sp>
        <p:nvSpPr>
          <p:cNvPr id="3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Distribution is Difficult to Mea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additional electricity, what is the cost on the distribution system, what is the cost for the electricity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new custom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increased demand from existing custom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s Depend on Loc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imposing costs on new customers or customers who are moving</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a:t>
            </a:r>
            <a:endParaRPr b="1" lang="en-US" sz="2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Function</a:t>
            </a:r>
            <a:endParaRPr b="1" lang="en-US" sz="2000" spc="-1" strike="noStrike">
              <a:solidFill>
                <a:srgbClr val="000000"/>
              </a:solidFill>
              <a:latin typeface="Arial"/>
            </a:endParaRPr>
          </a:p>
        </p:txBody>
      </p:sp>
      <p:sp>
        <p:nvSpPr>
          <p:cNvPr id="3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includes assets and expenses associated with the high voltage systems used for bulk transmission of power to and from interconnected systems and load system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s of transmission and sub-transmission are generally considered costs that do not vary with the quantity of energy transmit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ransmission that allows avoidance of line losses can be considered energy rel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mission facilities may be directly related to specific customers and be directly allocated.</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 Services Function</a:t>
            </a:r>
            <a:endParaRPr b="1" lang="en-US" sz="2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osts</a:t>
            </a:r>
            <a:endParaRPr b="1" lang="en-US" sz="2000" spc="-1" strike="noStrike">
              <a:solidFill>
                <a:srgbClr val="000000"/>
              </a:solidFill>
              <a:latin typeface="Arial"/>
            </a:endParaRPr>
          </a:p>
        </p:txBody>
      </p:sp>
      <p:sp>
        <p:nvSpPr>
          <p:cNvPr id="3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that are associated with the number of customers such as preparation of a bill or metering and the maybe the costs of customer infor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irectly classify costs customer grou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osts not associated with providing electri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llectibl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len electricity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moving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connecting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edwardbodmer@gmai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2"/>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116"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1427040" y="1523880"/>
            <a:ext cx="6289920" cy="4572000"/>
          </a:xfrm>
          <a:prstGeom prst="rect">
            <a:avLst/>
          </a:prstGeom>
          <a:ln w="0">
            <a:noFill/>
          </a:ln>
        </p:spPr>
      </p:pic>
      <p:sp>
        <p:nvSpPr>
          <p:cNvPr id="119"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3"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5"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127"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Covered in the Course</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and embedded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in approaches to measuring cost of service for generation, transmission and distributio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of revenue requirements,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ervice perspective and arguments made by household and business consume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quity and other rationale for marginal cost versus embedded cost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hands-on exercises in computing rate design, cost of service and revenue requiremen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perspective of different parties in the proces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studies on alternative policy frameworks in pricing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iscussion of computing coincident and non-coincident peak demand, capacity cost, uncollectible accounts, customer charges, inverted block rates and cost of capital</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supply curves, hourly marginal cost, capacity costs and demand elasticity for generation of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129"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13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1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 at Marginal Cost versus Average Cost</a:t>
            </a:r>
            <a:endParaRPr b="1" lang="en-US" sz="2000" spc="-1" strike="noStrike">
              <a:solidFill>
                <a:srgbClr val="000000"/>
              </a:solidFill>
              <a:latin typeface="Arial"/>
            </a:endParaRPr>
          </a:p>
        </p:txBody>
      </p:sp>
      <p:pic>
        <p:nvPicPr>
          <p:cNvPr id="14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4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1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1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1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6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6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Requirements</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Year</a:t>
            </a:r>
            <a:endParaRPr b="1" lang="en-US" sz="2000" spc="-1" strike="noStrike">
              <a:solidFill>
                <a:srgbClr val="000000"/>
              </a:solidFill>
              <a:latin typeface="Arial"/>
            </a:endParaRPr>
          </a:p>
        </p:txBody>
      </p:sp>
      <p:sp>
        <p:nvSpPr>
          <p:cNvPr id="1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that are established are likely to remain in effect for an indeterminate period into the future.  Rates are established using the current or projected costs and sales information for a selected annual time period.  This is the test year.  It is supposed to be representative of costs and sales that will be experienced during the period the rates will likely be in eff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Test Year</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Formu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Reven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 Operating Expenses + Taxes + Rate Base x Rate of Retur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revenues earn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 and capital expendi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tinuing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 Continued</a:t>
            </a:r>
            <a:endParaRPr b="1" lang="en-US" sz="2000" spc="-1" strike="noStrike">
              <a:solidFill>
                <a:srgbClr val="000000"/>
              </a:solidFill>
              <a:latin typeface="Arial"/>
            </a:endParaRPr>
          </a:p>
        </p:txBody>
      </p:sp>
      <p:sp>
        <p:nvSpPr>
          <p:cNvPr id="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ssignment of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Distribution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incident Lo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9" name=""/>
          <p:cNvSpPr txBox="1"/>
          <p:nvPr/>
        </p:nvSpPr>
        <p:spPr>
          <a:xfrm>
            <a:off x="533520" y="1295280"/>
            <a:ext cx="777240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 company to earn cost of capital</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f allowing a company to earn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more than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less than the cost of capital</a:t>
            </a: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ital and rate base</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capital equating to rate base</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own other assets</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building large plants and CWIP</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Cost and Fair Value Ratemaking</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s</a:t>
            </a:r>
            <a:endParaRPr b="1" lang="en-US" sz="2000" spc="-1" strike="noStrike">
              <a:solidFill>
                <a:srgbClr val="000000"/>
              </a:solidFill>
              <a:latin typeface="Arial"/>
            </a:endParaRPr>
          </a:p>
        </p:txBody>
      </p:sp>
      <p:sp>
        <p:nvSpPr>
          <p:cNvPr id="171" name=""/>
          <p:cNvSpPr txBox="1"/>
          <p:nvPr/>
        </p:nvSpPr>
        <p:spPr>
          <a:xfrm>
            <a:off x="457200" y="1218960"/>
            <a:ext cx="7848720" cy="464796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f Operating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Accounting Records in Measuring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able and Non-Allowable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historic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regulatory lag</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in operat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sale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future test year</a:t>
            </a:r>
            <a:endParaRPr b="0" lang="en-US" sz="16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udent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r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gulatory Model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cen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Rates at CPI – 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x</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lower rates at next rou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take sales growth risk</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 regul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Benchmark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Service Territo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Adjustment Clause</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Fuel Adjustment Clau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base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purchased power chan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iation of actual fuel costs with fuel costs in base rate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Cost Adjustments</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costs that do not provide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non-continuing items such as storm damag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e over the term between rate cas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of rate cas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push costs into rate case yea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justment clause and reconciliation of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nd measurable adjustments for increased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Income Schedule</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ctual Operating Income at Present Rates including revenues, operating expenses taxes and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above the line and below the li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expenses not recovered to below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djustments to revenues and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ate base with and without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djusted operating income at present rates and adjusted rate of return at present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perating Income Calculations</a:t>
            </a:r>
            <a:endParaRPr b="1" lang="en-US" sz="2000" spc="-1" strike="noStrike">
              <a:solidFill>
                <a:srgbClr val="000000"/>
              </a:solidFill>
              <a:latin typeface="Arial"/>
            </a:endParaRPr>
          </a:p>
        </p:txBody>
      </p:sp>
      <p:pic>
        <p:nvPicPr>
          <p:cNvPr id="189" name="Picture 4" descr=""/>
          <p:cNvPicPr/>
          <p:nvPr/>
        </p:nvPicPr>
        <p:blipFill>
          <a:blip r:embed="rId1"/>
          <a:stretch/>
        </p:blipFill>
        <p:spPr>
          <a:xfrm>
            <a:off x="838080" y="1371600"/>
            <a:ext cx="7591680" cy="46134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in Setting Rates</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 system that has the lowest cost to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hoice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mount of capacity (not too much surplus or shor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eration of the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do not earn excessive returns that are above what could be earned in other indust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to not get service for below the true cost of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nsumer classes pay fair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te Base Schedule</a:t>
            </a:r>
            <a:endParaRPr b="1" lang="en-US" sz="2000" spc="-1" strike="noStrike">
              <a:solidFill>
                <a:srgbClr val="000000"/>
              </a:solidFill>
              <a:latin typeface="Arial"/>
            </a:endParaRPr>
          </a:p>
        </p:txBody>
      </p:sp>
      <p:pic>
        <p:nvPicPr>
          <p:cNvPr id="191" name="Picture 2" descr=""/>
          <p:cNvPicPr/>
          <p:nvPr/>
        </p:nvPicPr>
        <p:blipFill>
          <a:blip r:embed="rId1"/>
          <a:stretch/>
        </p:blipFill>
        <p:spPr>
          <a:xfrm>
            <a:off x="762120" y="1544760"/>
            <a:ext cx="7619760" cy="45306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Requirement Components</a:t>
            </a:r>
            <a:endParaRPr b="1" lang="en-US" sz="2000" spc="-1" strike="noStrike">
              <a:solidFill>
                <a:srgbClr val="000000"/>
              </a:solidFill>
              <a:latin typeface="Arial"/>
            </a:endParaRPr>
          </a:p>
        </p:txBody>
      </p:sp>
      <p:pic>
        <p:nvPicPr>
          <p:cNvPr id="193" name="Picture 2" descr=""/>
          <p:cNvPicPr/>
          <p:nvPr/>
        </p:nvPicPr>
        <p:blipFill>
          <a:blip r:embed="rId1"/>
          <a:stretch/>
        </p:blipFill>
        <p:spPr>
          <a:xfrm>
            <a:off x="331920" y="1752480"/>
            <a:ext cx="8049960" cy="390528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Base Adjustments</a:t>
            </a:r>
            <a:endParaRPr b="1" lang="en-US" sz="2000" spc="-1" strike="noStrike">
              <a:solidFill>
                <a:srgbClr val="000000"/>
              </a:solidFill>
              <a:latin typeface="Arial"/>
            </a:endParaRPr>
          </a:p>
        </p:txBody>
      </p:sp>
      <p:sp>
        <p:nvSpPr>
          <p:cNvPr id="195" name=""/>
          <p:cNvSpPr txBox="1"/>
          <p:nvPr/>
        </p:nvSpPr>
        <p:spPr>
          <a:xfrm>
            <a:off x="762120" y="1371600"/>
            <a:ext cx="7619760" cy="4572000"/>
          </a:xfrm>
          <a:prstGeom prst="rect">
            <a:avLst/>
          </a:prstGeom>
          <a:noFill/>
          <a:ln w="0">
            <a:noFill/>
          </a:ln>
        </p:spPr>
        <p:txBody>
          <a:bodyPr lIns="92160" rIns="92160" tIns="46080" bIns="46080" anchor="t">
            <a:normAutofit fontScale="94000"/>
          </a:bodyPr>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Cost</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Adjustments</a:t>
            </a:r>
            <a:endParaRPr b="0" lang="en-US" sz="1800" spc="-1" strike="noStrike">
              <a:solidFill>
                <a:srgbClr val="000000"/>
              </a:solidFill>
              <a:latin typeface="Arial"/>
            </a:endParaRPr>
          </a:p>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justments</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es higher than would be experienced in competitive system</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efining prudent expenses</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and Useful Adjustment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capacity</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adjustment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Regulatory Lag</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Adjustment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use of ori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acquisitions create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Reduce administrative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perating expenses reduced, then shareholders receive no benefits and will have no incentive to make an acquisition that can sav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the acquisition adjustment should be included in  the rate b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ost and benefit analysi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99"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201" name="Content Placeholder 3" descr=""/>
          <p:cNvPicPr/>
          <p:nvPr/>
        </p:nvPicPr>
        <p:blipFill>
          <a:blip r:embed="rId1"/>
          <a:stretch/>
        </p:blipFill>
        <p:spPr>
          <a:xfrm>
            <a:off x="304920" y="1981080"/>
            <a:ext cx="4038480" cy="3048120"/>
          </a:xfrm>
          <a:prstGeom prst="rect">
            <a:avLst/>
          </a:prstGeom>
          <a:ln w="0">
            <a:noFill/>
          </a:ln>
        </p:spPr>
      </p:pic>
      <p:pic>
        <p:nvPicPr>
          <p:cNvPr id="202"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204"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06"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llow companies to recover their tax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ates change, the taxes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xpenses increase, then the taxes do not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t income is targeted to increase, then the taxes should also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the tax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quired Increase + Required Ta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 Tax x Revenue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x (1-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ncrease = Net Income Increase / (1-t)</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al Pressure and Influence of Parties on the Proces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large customers have more influence on the process because more money is at stake.  Stigl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that have more concentrated stake in the process have more influe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companies earning more than their cost of capital will tend to “gold plate” asse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such as non-coincident peak, allocation of production facilities from demand and minimum distribution system come from large us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Tax Rate</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762120" y="3417840"/>
            <a:ext cx="7619760" cy="784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Conversion Factor</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762120" y="1763640"/>
            <a:ext cx="7619760" cy="409248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venue Requirement Issues</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Normaliz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sales and weather data</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nd Deprec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New Facilitie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ales Data for Analysis of Normalisation</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228600" y="2075040"/>
            <a:ext cx="8647200" cy="356364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should equal Cost of Equity Capit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recover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ate base = cost of capital, then can construct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ual cost and actual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ynchronization from rate base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ate base = Lower tax expense associated with rate b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should be average interest expense not the actual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weighted average cost of capital</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2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ost of Deb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 is not used WACC formul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 Surveys of Manager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226"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return that is required to make invest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setting the cost of capital to return on equity is import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allow investors to recover cost or will give extra money to inves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incentive to over-invest or to under-invest</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ad Factor, Capacity Factor, Availability Factor</a:t>
            </a:r>
            <a:endParaRPr b="1" lang="en-US" sz="2000" spc="-1" strike="noStrike">
              <a:solidFill>
                <a:srgbClr val="000000"/>
              </a:solidFill>
              <a:latin typeface="Arial"/>
            </a:endParaRPr>
          </a:p>
        </p:txBody>
      </p:sp>
      <p:sp>
        <p:nvSpPr>
          <p:cNvPr id="1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mand/Peak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8760/Peak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for Pla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Possible Gen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Generation/8760/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Available/Total Hour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Capital) * Kd  + (E/Capital) * K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Equity Capital</a:t>
            </a:r>
            <a:endParaRPr b="1" lang="en-US" sz="18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3"/>
          <p:cNvGrpSpPr/>
          <p:nvPr/>
        </p:nvGrpSpPr>
        <p:grpSpPr>
          <a:xfrm>
            <a:off x="59760" y="4807080"/>
            <a:ext cx="1229400" cy="596880"/>
            <a:chOff x="59760" y="4807080"/>
            <a:chExt cx="1229400" cy="596880"/>
          </a:xfrm>
        </p:grpSpPr>
        <p:sp>
          <p:nvSpPr>
            <p:cNvPr id="236" name="AutoShape 4"/>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5"/>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Arial"/>
              </a:endParaRPr>
            </a:p>
          </p:txBody>
        </p:sp>
      </p:grpSp>
      <p:grpSp>
        <p:nvGrpSpPr>
          <p:cNvPr id="238" name="Group 6"/>
          <p:cNvGrpSpPr/>
          <p:nvPr/>
        </p:nvGrpSpPr>
        <p:grpSpPr>
          <a:xfrm>
            <a:off x="1277640" y="4349880"/>
            <a:ext cx="1459080" cy="1054080"/>
            <a:chOff x="1277640" y="4349880"/>
            <a:chExt cx="1459080" cy="1054080"/>
          </a:xfrm>
        </p:grpSpPr>
        <p:sp>
          <p:nvSpPr>
            <p:cNvPr id="239" name="AutoShape 7"/>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AutoShape 8"/>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9"/>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Arial"/>
              </a:endParaRPr>
            </a:p>
          </p:txBody>
        </p:sp>
      </p:grpSp>
      <p:grpSp>
        <p:nvGrpSpPr>
          <p:cNvPr id="242" name="Group 10"/>
          <p:cNvGrpSpPr/>
          <p:nvPr/>
        </p:nvGrpSpPr>
        <p:grpSpPr>
          <a:xfrm>
            <a:off x="2109960" y="3481560"/>
            <a:ext cx="2379600" cy="1922400"/>
            <a:chOff x="2109960" y="3481560"/>
            <a:chExt cx="2379600" cy="1922400"/>
          </a:xfrm>
        </p:grpSpPr>
        <p:sp>
          <p:nvSpPr>
            <p:cNvPr id="243" name="AutoShape 11"/>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AutoShape 12"/>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AutoShape 13"/>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Rectangle 14"/>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Arial"/>
              </a:endParaRPr>
            </a:p>
          </p:txBody>
        </p:sp>
      </p:grpSp>
      <p:grpSp>
        <p:nvGrpSpPr>
          <p:cNvPr id="247" name="Group 15"/>
          <p:cNvGrpSpPr/>
          <p:nvPr/>
        </p:nvGrpSpPr>
        <p:grpSpPr>
          <a:xfrm>
            <a:off x="6483240" y="2139840"/>
            <a:ext cx="2231280" cy="3035520"/>
            <a:chOff x="6483240" y="2139840"/>
            <a:chExt cx="2231280" cy="3035520"/>
          </a:xfrm>
        </p:grpSpPr>
        <p:grpSp>
          <p:nvGrpSpPr>
            <p:cNvPr id="248" name="Group 16"/>
            <p:cNvGrpSpPr/>
            <p:nvPr/>
          </p:nvGrpSpPr>
          <p:grpSpPr>
            <a:xfrm>
              <a:off x="6483240" y="2139840"/>
              <a:ext cx="520920" cy="3035520"/>
              <a:chOff x="6483240" y="2139840"/>
              <a:chExt cx="520920" cy="3035520"/>
            </a:xfrm>
          </p:grpSpPr>
          <p:sp>
            <p:nvSpPr>
              <p:cNvPr id="249" name="AutoShape 17"/>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18"/>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9"/>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Rectangle 20"/>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Arial"/>
              </a:endParaRPr>
            </a:p>
          </p:txBody>
        </p:sp>
      </p:grpSp>
      <p:grpSp>
        <p:nvGrpSpPr>
          <p:cNvPr id="253" name="Group 21"/>
          <p:cNvGrpSpPr/>
          <p:nvPr/>
        </p:nvGrpSpPr>
        <p:grpSpPr>
          <a:xfrm>
            <a:off x="6254640" y="4014720"/>
            <a:ext cx="1559160" cy="1389240"/>
            <a:chOff x="6254640" y="4014720"/>
            <a:chExt cx="1559160" cy="1389240"/>
          </a:xfrm>
        </p:grpSpPr>
        <p:sp>
          <p:nvSpPr>
            <p:cNvPr id="254" name="AutoShape 22"/>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AutoShape 23"/>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AutoShape 24"/>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25"/>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258" name="Line 26"/>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259" name="Group 27"/>
          <p:cNvGrpSpPr/>
          <p:nvPr/>
        </p:nvGrpSpPr>
        <p:grpSpPr>
          <a:xfrm>
            <a:off x="4495680" y="2440080"/>
            <a:ext cx="1677960" cy="2743200"/>
            <a:chOff x="4495680" y="2440080"/>
            <a:chExt cx="1677960" cy="2743200"/>
          </a:xfrm>
        </p:grpSpPr>
        <p:sp>
          <p:nvSpPr>
            <p:cNvPr id="260" name="Arc 28"/>
            <p:cNvSpPr/>
            <p:nvPr/>
          </p:nvSpPr>
          <p:spPr>
            <a:xfrm>
              <a:off x="5183280" y="2440080"/>
              <a:ext cx="990360" cy="1218960"/>
            </a:xfrm>
            <a:custGeom>
              <a:avLst/>
              <a:gdLst>
                <a:gd name="textAreaLeft" fmla="*/ 0 w 990360"/>
                <a:gd name="textAreaRight" fmla="*/ 990720 w 990360"/>
                <a:gd name="textAreaTop" fmla="*/ 0 h 1218960"/>
                <a:gd name="textAreaBottom" fmla="*/ 1219320 h 12189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1" name="Arc 29"/>
            <p:cNvSpPr/>
            <p:nvPr/>
          </p:nvSpPr>
          <p:spPr>
            <a:xfrm rot="10800000">
              <a:off x="5180040" y="4116240"/>
              <a:ext cx="992160" cy="1067040"/>
            </a:xfrm>
            <a:custGeom>
              <a:avLst/>
              <a:gdLst>
                <a:gd name="textAreaLeft" fmla="*/ 0 w 992160"/>
                <a:gd name="textAreaRight" fmla="*/ 992520 w 992160"/>
                <a:gd name="textAreaTop" fmla="*/ 0 h 1067040"/>
                <a:gd name="textAreaBottom" fmla="*/ 1067400 h 106704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2" name="Rectangle 30"/>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Arial"/>
              </a:endParaRPr>
            </a:p>
          </p:txBody>
        </p:sp>
        <p:sp>
          <p:nvSpPr>
            <p:cNvPr id="263" name="Line 31"/>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5"/>
                                        </p:tgtEl>
                                        <p:attrNameLst>
                                          <p:attrName>style.visibility</p:attrName>
                                        </p:attrNameLst>
                                      </p:cBhvr>
                                      <p:to>
                                        <p:strVal val="visible"/>
                                      </p:to>
                                    </p:set>
                                    <p:animEffect filter="wipe(down)" transition="in">
                                      <p:cBhvr additive="repl">
                                        <p:cTn id="7" dur="500"/>
                                        <p:tgtEl>
                                          <p:spTgt spid="2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38"/>
                                        </p:tgtEl>
                                        <p:attrNameLst>
                                          <p:attrName>style.visibility</p:attrName>
                                        </p:attrNameLst>
                                      </p:cBhvr>
                                      <p:to>
                                        <p:strVal val="visible"/>
                                      </p:to>
                                    </p:set>
                                    <p:animEffect filter="wipe(down)"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42"/>
                                        </p:tgtEl>
                                        <p:attrNameLst>
                                          <p:attrName>style.visibility</p:attrName>
                                        </p:attrNameLst>
                                      </p:cBhvr>
                                      <p:to>
                                        <p:strVal val="visible"/>
                                      </p:to>
                                    </p:set>
                                    <p:animEffect filter="wipe(down)" transition="in">
                                      <p:cBhvr additive="repl">
                                        <p:cTn id="17" dur="500"/>
                                        <p:tgtEl>
                                          <p:spTgt spid="2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wipe(down)"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53"/>
                                        </p:tgtEl>
                                        <p:attrNameLst>
                                          <p:attrName>style.visibility</p:attrName>
                                        </p:attrNameLst>
                                      </p:cBhvr>
                                      <p:to>
                                        <p:strVal val="visible"/>
                                      </p:to>
                                    </p:set>
                                    <p:animEffect filter="wipe(down)" transition="in">
                                      <p:cBhvr additive="repl">
                                        <p:cTn id="27" dur="500"/>
                                        <p:tgtEl>
                                          <p:spTgt spid="2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259"/>
                                        </p:tgtEl>
                                        <p:attrNameLst>
                                          <p:attrName>style.visibility</p:attrName>
                                        </p:attrNameLst>
                                      </p:cBhvr>
                                      <p:to>
                                        <p:strVal val="visible"/>
                                      </p:to>
                                    </p:set>
                                    <p:animEffect filter="wipe(right)" transition="in">
                                      <p:cBhvr additive="repl">
                                        <p:cTn id="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8557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Service General Issu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Cost of Service Study</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Common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facilities were used for specific customers, there would be no problem</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fficient to share most facilities between different customers and customer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costs must be allocated to different customer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such as billing costs or costs managing specific accounts do not have to be allocated</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aus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etermine how much of the cost is caused by different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ustomer groups by cost causation</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Continued</a:t>
            </a:r>
            <a:endParaRPr b="1" lang="en-US" sz="2000" spc="-1" strike="noStrike">
              <a:solidFill>
                <a:srgbClr val="000000"/>
              </a:solidFill>
              <a:latin typeface="Arial"/>
            </a:endParaRPr>
          </a:p>
        </p:txBody>
      </p:sp>
      <p:sp>
        <p:nvSpPr>
          <p:cNvPr id="1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owners understand the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not increased from corrup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do not suddenly increase or decrease from items not related to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Fairness Objective</a:t>
            </a:r>
            <a:endParaRPr b="1" lang="en-US" sz="2000" spc="-1" strike="noStrike">
              <a:solidFill>
                <a:srgbClr val="000000"/>
              </a:solidFill>
              <a:latin typeface="Arial"/>
            </a:endParaRPr>
          </a:p>
        </p:txBody>
      </p:sp>
      <p:pic>
        <p:nvPicPr>
          <p:cNvPr id="279" name="Picture 2" descr=""/>
          <p:cNvPicPr/>
          <p:nvPr/>
        </p:nvPicPr>
        <p:blipFill>
          <a:blip r:embed="rId1"/>
          <a:stretch/>
        </p:blipFill>
        <p:spPr>
          <a:xfrm>
            <a:off x="1523880" y="1523880"/>
            <a:ext cx="5791320" cy="41036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Class Definition</a:t>
            </a:r>
            <a:endParaRPr b="1" lang="en-US" sz="24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lass Definition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Commercial and Industria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 Ligh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 Heat, Schools and Other Special Clas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s for Alternative Customer Cla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for Alternative Customer Class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Peak Divers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Divers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lass Definition</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 Costs by Classes that have Differences in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ines for Residential Costs but not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Load Factor of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Billing for Small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formers for Large Customer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oad Factor</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Related to Peak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tribution Lin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mission 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sts Related to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ost of Pow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 = Average Energy/Peak Loa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ng Determinants and Load Research</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hat can be obtained from customer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per Mon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 for Industrial Custom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Load Factors for Customer Classes without Peak Load 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ampling and Statistical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ssues for Different Customer Classes</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ss Factors in Load Research</a:t>
            </a:r>
            <a:endParaRPr b="1" lang="en-US" sz="2000" spc="-1" strike="noStrike">
              <a:solidFill>
                <a:srgbClr val="000000"/>
              </a:solidFill>
              <a:latin typeface="Arial"/>
            </a:endParaRPr>
          </a:p>
        </p:txBody>
      </p:sp>
      <p:pic>
        <p:nvPicPr>
          <p:cNvPr id="289" name="Picture 2" descr=""/>
          <p:cNvPicPr/>
          <p:nvPr/>
        </p:nvPicPr>
        <p:blipFill>
          <a:blip r:embed="rId1"/>
          <a:stretch/>
        </p:blipFill>
        <p:spPr>
          <a:xfrm>
            <a:off x="1546200" y="1523880"/>
            <a:ext cx="605160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Research and Need of Peak Load Data from Time Recording Meters</a:t>
            </a:r>
            <a:endParaRPr b="1" lang="en-US" sz="2000" spc="-1" strike="noStrike">
              <a:solidFill>
                <a:srgbClr val="000000"/>
              </a:solidFill>
              <a:latin typeface="Arial"/>
            </a:endParaRPr>
          </a:p>
        </p:txBody>
      </p:sp>
      <p:pic>
        <p:nvPicPr>
          <p:cNvPr id="291" name="Picture 2" descr=""/>
          <p:cNvPicPr/>
          <p:nvPr/>
        </p:nvPicPr>
        <p:blipFill>
          <a:blip r:embed="rId1"/>
          <a:stretch/>
        </p:blipFill>
        <p:spPr>
          <a:xfrm>
            <a:off x="887400" y="1523880"/>
            <a:ext cx="736920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Load Factors for Allocating Costs that Depend on the Peak Load of the System</a:t>
            </a:r>
            <a:endParaRPr b="1" lang="en-US" sz="2000" spc="-1" strike="noStrike">
              <a:solidFill>
                <a:srgbClr val="000000"/>
              </a:solidFill>
              <a:latin typeface="Arial"/>
            </a:endParaRPr>
          </a:p>
        </p:txBody>
      </p:sp>
      <p:pic>
        <p:nvPicPr>
          <p:cNvPr id="293" name="Picture 6" descr=""/>
          <p:cNvPicPr/>
          <p:nvPr/>
        </p:nvPicPr>
        <p:blipFill>
          <a:blip r:embed="rId1"/>
          <a:stretch/>
        </p:blipFill>
        <p:spPr>
          <a:xfrm>
            <a:off x="304920" y="1600200"/>
            <a:ext cx="8354880" cy="4724280"/>
          </a:xfrm>
          <a:prstGeom prst="rect">
            <a:avLst/>
          </a:prstGeom>
          <a:ln w="0">
            <a:noFill/>
          </a:ln>
        </p:spPr>
      </p:pic>
      <p:sp>
        <p:nvSpPr>
          <p:cNvPr id="294" name="TextBox 9"/>
          <p:cNvSpPr/>
          <p:nvPr/>
        </p:nvSpPr>
        <p:spPr>
          <a:xfrm>
            <a:off x="7010280" y="1219320"/>
            <a:ext cx="1828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ich allocation factors favor different customer groups</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llocators</a:t>
            </a:r>
            <a:endParaRPr b="1" lang="en-US" sz="2000" spc="-1" strike="noStrike">
              <a:solidFill>
                <a:srgbClr val="000000"/>
              </a:solidFill>
              <a:latin typeface="Arial"/>
            </a:endParaRPr>
          </a:p>
        </p:txBody>
      </p:sp>
      <p:pic>
        <p:nvPicPr>
          <p:cNvPr id="296" name="Picture 2" descr=""/>
          <p:cNvPicPr/>
          <p:nvPr/>
        </p:nvPicPr>
        <p:blipFill>
          <a:blip r:embed="rId1"/>
          <a:stretch/>
        </p:blipFill>
        <p:spPr>
          <a:xfrm>
            <a:off x="533520" y="1604880"/>
            <a:ext cx="8229600" cy="41054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CP versus Single CP method</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2 CP demand allocation method is based on the principle that a utility installs facilities to maintain a reasonably constant level of reliability throughout the year or that significant variations in monthly peak demand are not presen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ost Approaches</a:t>
            </a:r>
            <a:endParaRPr b="1" lang="en-US" sz="2000" spc="-1" strike="noStrike">
              <a:solidFill>
                <a:srgbClr val="000000"/>
              </a:solidFill>
              <a:latin typeface="Arial"/>
            </a:endParaRPr>
          </a:p>
        </p:txBody>
      </p:sp>
      <p:sp>
        <p:nvSpPr>
          <p:cNvPr id="3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Embedded Cost and Other Alternativ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Marginal Cos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cost versus added quant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versus short-term marginal cos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 Argu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Summer and Wint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Night time and Day tim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Requires Elasticity of Dema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lass Argumen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of Measuring Marginal Cos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Cost Argument</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Energy is 30/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10/MWH, then the customer will use too much power and wast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50/MWH, then the customer will not use enough power and the fixed costs of providing the power will no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usage does not change in reaction to price, then the efficiency argument is not meaningfu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prices in a competitive economy approximate marginal cost and it is therefore a fair method of allocatio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run versus Short-run Marginal Cost</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 costs assume all facilities are in pla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costs account for the addition of new facil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should reflect long-run margin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spik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marginal costs include hypothetical costs of renting new equipment</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osophy of Marginal Cost</a:t>
            </a:r>
            <a:endParaRPr b="1" lang="en-US" sz="2000" spc="-1" strike="noStrike">
              <a:solidFill>
                <a:srgbClr val="000000"/>
              </a:solidFill>
              <a:latin typeface="Arial"/>
            </a:endParaRPr>
          </a:p>
        </p:txBody>
      </p:sp>
      <p:sp>
        <p:nvSpPr>
          <p:cNvPr id="3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gument for marginal cost depends on the price elasticity of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eople do not change their electricity usage when prices change, then nothing will change in the way the system operates and there can be no change in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factory and imports of electricity price.  If the price is below import price and factory will shut down with high electricity prices, then the factory should change the way it ope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price elasticity in demand then there is no argument for marginal cos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Proces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the functionalized costs into classifications from the components (e.g. generation, transmission and distribution) being provided.  The costs should be divided into those costs that vary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 costs that are caused by kW demand imposed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costs that are caused by energy or kWh use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 costs that vary according to the number of customers and do not depend on the size of the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Costs into Cost  Categories that are Driven by Different Factor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zation – Classify Costs According to Categories that will be Allocated</a:t>
            </a:r>
            <a:endParaRPr b="1" lang="en-US" sz="2000" spc="-1" strike="noStrike">
              <a:solidFill>
                <a:srgbClr val="000000"/>
              </a:solidFill>
              <a:latin typeface="Arial"/>
            </a:endParaRPr>
          </a:p>
        </p:txBody>
      </p:sp>
      <p:pic>
        <p:nvPicPr>
          <p:cNvPr id="312" name="Picture 2" descr=""/>
          <p:cNvPicPr/>
          <p:nvPr/>
        </p:nvPicPr>
        <p:blipFill>
          <a:blip r:embed="rId1"/>
          <a:stretch/>
        </p:blipFill>
        <p:spPr>
          <a:xfrm>
            <a:off x="1722600" y="1523880"/>
            <a:ext cx="5698800" cy="45720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a:t>
            </a:r>
            <a:endParaRPr b="1" lang="en-US" sz="2000" spc="-1" strike="noStrike">
              <a:solidFill>
                <a:srgbClr val="000000"/>
              </a:solidFill>
              <a:latin typeface="Arial"/>
            </a:endParaRPr>
          </a:p>
        </p:txBody>
      </p:sp>
      <p:pic>
        <p:nvPicPr>
          <p:cNvPr id="314" name="Picture 2" descr=""/>
          <p:cNvPicPr/>
          <p:nvPr/>
        </p:nvPicPr>
        <p:blipFill>
          <a:blip r:embed="rId1"/>
          <a:stretch/>
        </p:blipFill>
        <p:spPr>
          <a:xfrm>
            <a:off x="1184400" y="1523880"/>
            <a:ext cx="677520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Marginal Cost</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costs that would have to be incurred to clear a marke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Cos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clear a market in energy is the cost of the most expensive generating unit running on a system.</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back-up energy is the lowest cost of capacity that can be purchased at current cost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current costs instead of actu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marginal costs do not equal actual cos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Cost Recovery Factors in Marginal Cost</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 is that Cost of New Plant should be u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to convert one-time capital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charge factor converts one-time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real interest rates in computing the carrying charge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MT function in exc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3-02-01T10:11:44Z</dcterms:modified>
  <cp:revision>1340</cp:revision>
  <dc:subject/>
  <dc:title>Project Finance</dc:title>
</cp:coreProperties>
</file>